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8EB-8222-43B9-B8F2-50A3BCD8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4D4-C8D9-4803-83A5-F061E13F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2D6-0115-445B-B058-694895B3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92E-0135-4C0A-A67A-DBC55AD2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1839-3D0D-44E9-8D3F-D54AD9A9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CE67-9B28-4FE0-AAE5-23FAD57D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FF1C-9B1B-4D80-91DF-33DC84B0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0D3-AD0E-4A42-B7C3-D1F043BA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3E4-5E95-4986-998D-2927C9E3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4DE7-3242-46F7-84C8-D05F05A9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873-8E69-491B-9A16-6BCD761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E74-F083-424A-A815-3C3A8C9E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2ECE-AB3D-4C27-B5EE-6908438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E891-8111-4FDB-941B-E7068C83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080-8CE0-4FDC-B1AC-A554EF8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8D91-063A-408E-B85E-613751D4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61F4-FBBA-4C90-9916-DAB64D81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FE0-9EE4-4318-86B1-26B333D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A7F-AC32-42D0-B242-082837F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988-9F4B-4B8A-B208-C9F66B5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2F2-F6E6-4F51-B3E6-67D6446A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CCC-D515-4943-B26F-7D7B493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983-CD3F-46C2-87C4-134411B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788-8B33-43DD-BDA9-9B2B882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09D-1F48-48A5-BABF-8158CE7754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5054-3218-49BE-87A4-C2F390C79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google.com/imgres?imgurl=http://www.photobirds.com/templates/default/images_pubs/bird_skeleton.jpg&amp;imgrefurl=http://www.photobirds.com/pub_8_Avian_skeleton.html&amp;h=520&amp;w=350&amp;sz=26&amp;tbnid=5Qu_deVHKR2XJM:&amp;tbnh=274&amp;tbnw=184&amp;prev=/images%3Fq%3Dskeleton%2Bof%2Bbird&amp;zoom=1&amp;q=skeleton+of+bird&amp;hl=en&amp;usg=__cHm7oP2Yc6grbpKwcZk1g45kkQA=&amp;sa=X&amp;ei=_DiFTJi-NsP6lwf99LmGDg&amp;ved=0CBYQ9QEwAA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google.com/imgres?imgurl=http://www.statesymbolsusa.org/IMAGES/Illinois/NorthernCardinal2.jpg&amp;imgrefurl=http://www.statesymbolsusa.org/Illinois/bird_cardinal.html&amp;h=374&amp;w=334&amp;sz=24&amp;tbnid=Lv5eLlTHJRAABM:&amp;tbnh=238&amp;tbnw=212&amp;prev=/images%3Fq%3Dphoto%2Bof%2Bcardinal&amp;zoom=1&amp;q=photo+of+cardinal&amp;hl=en&amp;usg=__BuryGEtdPbXywFstqiOxNyAtin0=&amp;sa=X&amp;ei=sTmFTJfrLYP7lwf1ian1Dw&amp;ved=0CBkQ9QEwAQ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/imgres?imgurl=http://static.howstuffworks.com/gif/frog-1.jpg&amp;imgrefurl=http://animals.howstuffworks.com/amphibians/frog.htm&amp;h=349&amp;w=400&amp;sz=22&amp;tbnid=WneiJ9aXOx4U2M:&amp;tbnh=108&amp;tbnw=124&amp;prev=/images%3Fq%3Dphoto%2Bof%2Bfrog&amp;zoom=1&amp;q=photo+of+frog&amp;hl=en&amp;usg=__WVGmIrnR0pkzoB_SN1ML7TH6MyQ=&amp;sa=X&amp;ei=9jmFTLfZNsT_lgeyqpXQDw&amp;ved=0CCEQ9QEwAA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m/imgres?imgurl=http://www.digitalfrog.com/resources/archives/skeleton.jpg&amp;imgrefurl=http://www.digitalfrog.com/resources/froggallery.html&amp;h=414&amp;w=354&amp;sz=46&amp;tbnid=D0UucdXPA4j2cM:&amp;tbnh=125&amp;tbnw=107&amp;prev=/images%3Fq%3Dskeleton%2Bof%2Bfrog&amp;zoom=1&amp;q=skeleton+of+frog&amp;hl=en&amp;usg=__zFygvn3ySX2fZEbbwYsjshtjqZI=&amp;sa=X&amp;ei=JTqFTNH0EIOClAeFzcSMDg&amp;ved=0CCIQ9QEwBg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en.wikipedia.org/wiki/File:Snake_skeleton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google.com/imgres?imgurl=http://www.learning-graph.com/images/clownfish.jpg&amp;imgrefurl=http://www.learning-graph.com/look-and-tell.htm&amp;usg=__ao3nhQ0vFDoLaitkoQDIwzLj1E8=&amp;h=640&amp;w=800&amp;sz=162&amp;hl=en&amp;start=7&amp;zoom=1&amp;um=1&amp;itbs=1&amp;tbnid=0ay8bf-PASmSZM:&amp;tbnh=114&amp;tbnw=143&amp;prev=/images%3Fq%3Dphoto%2Bof%2Bfish%26um%3D1%26hl%3Den%26sa%3DX%26tbs%3Disch:1" TargetMode="External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rtebr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s with Backb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mm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hair or f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milk to their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live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876920" y="358128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33412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s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ed in fe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wings and b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n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838080"/>
            <a:ext cx="1782720" cy="2667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33720" y="3657600"/>
            <a:ext cx="2109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phib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82060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ave smooth and perhaps slimey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bloo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lives in water then change physically to go live on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04920"/>
            <a:ext cx="2210040" cy="194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457200"/>
            <a:ext cx="1849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ti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ed with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bloo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y eg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ed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ife independ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Snake skelet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962520"/>
            <a:ext cx="4171680" cy="233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copperhead1"/>
          <p:cNvPicPr/>
          <p:nvPr/>
        </p:nvPicPr>
        <p:blipFill>
          <a:blip r:embed="rId8"/>
          <a:stretch/>
        </p:blipFill>
        <p:spPr>
          <a:xfrm>
            <a:off x="228600" y="3962520"/>
            <a:ext cx="4267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m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bloo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ch from soft jelly like eg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s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th with g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ed 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life independ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have slimey co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24280" y="182880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5791320" y="4038480"/>
            <a:ext cx="26668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52:19Z</dcterms:created>
  <dc:creator>Gary</dc:creator>
  <dc:description/>
  <dc:language>en-US</dc:language>
  <cp:lastModifiedBy>Gina.Losey</cp:lastModifiedBy>
  <dcterms:modified xsi:type="dcterms:W3CDTF">2010-09-07T13:28:17Z</dcterms:modified>
  <cp:revision>8</cp:revision>
  <dc:subject/>
  <dc:title>Vertebrates</dc:title>
</cp:coreProperties>
</file>